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53B-1FCD-438E-972A-6F099E41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0A9-93AF-4F1E-99F3-E3385C5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492-1C0B-43DF-8273-FA516BCB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115-F05E-4AB2-993C-CC1B4D61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2C0-2867-49A4-9F2E-07C9156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DAD-75CB-443A-B482-E5B4F6D3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446-0DDF-4370-8F81-D42B9A9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924-FF01-46F0-B2D9-D954BF0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945-FF21-4016-9E05-85A16D11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0DE-8D7B-462F-B075-8AA881A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699-8B51-4FFF-AC95-356240A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FC2-9940-4583-85FF-9FB433B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97A-5A02-441E-BF8E-4A4C73E630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Тақырыбы №4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Шаруашылық жүргізуші субъектілердің қаржы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73"/>
                </a:solidFill>
                <a:latin typeface="Arial"/>
              </a:rPr>
              <a:t>Мыналар салыстырмалы көрсеткіштер болып табылад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Овал 3"/>
          <p:cNvGrpSpPr/>
          <p:nvPr/>
        </p:nvGrpSpPr>
        <p:grpSpPr>
          <a:xfrm>
            <a:off x="-60480" y="2097000"/>
            <a:ext cx="4461120" cy="2700360"/>
            <a:chOff x="-60480" y="2097000"/>
            <a:chExt cx="4461120" cy="2700360"/>
          </a:xfrm>
        </p:grpSpPr>
        <p:pic>
          <p:nvPicPr>
            <p:cNvPr id="68" name="Овал 3" descr=""/>
            <p:cNvPicPr/>
            <p:nvPr/>
          </p:nvPicPr>
          <p:blipFill>
            <a:blip r:embed="rId2"/>
            <a:stretch/>
          </p:blipFill>
          <p:spPr>
            <a:xfrm>
              <a:off x="-60480" y="2097000"/>
              <a:ext cx="44611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36480" y="2513160"/>
              <a:ext cx="307044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табыстылықтың (рентабелділіктің) деңгейі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Овал 4"/>
          <p:cNvGrpSpPr/>
          <p:nvPr/>
        </p:nvGrpSpPr>
        <p:grpSpPr>
          <a:xfrm>
            <a:off x="4816440" y="2097000"/>
            <a:ext cx="4383000" cy="2700360"/>
            <a:chOff x="4816440" y="2097000"/>
            <a:chExt cx="4383000" cy="2700360"/>
          </a:xfrm>
        </p:grpSpPr>
        <p:pic>
          <p:nvPicPr>
            <p:cNvPr id="71" name="Овал 4" descr=""/>
            <p:cNvPicPr/>
            <p:nvPr/>
          </p:nvPicPr>
          <p:blipFill>
            <a:blip r:embed="rId3"/>
            <a:stretch/>
          </p:blipFill>
          <p:spPr>
            <a:xfrm>
              <a:off x="4816440" y="2097000"/>
              <a:ext cx="438300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02240" y="2513160"/>
              <a:ext cx="301644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акциялар бойынша табыстылық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Шаруашылық жүргізуші субъектілердің қаржысына негізгі белгілерді атауға болады: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14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қатынастарының көпқырлылығы,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ардың нысандары мен мақсатты арналымының сан алуандығ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ндірістік құралдардың (капиталдардың)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ндетті болуы және оларды қалыптастырумен, көбейтумен және қайта бөлумен байла­нысты қатынастардың пайда болу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ғары белсенділік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уашылық қызметінің барлық жағына әсер ету мүмкіндіг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уашылық жүргізуші субъектілердің қаржысы бүкіл қаржы жүйесінің </a:t>
            </a:r>
            <a:r>
              <a:rPr b="0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йқындаушы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ізі болып табыл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аруашылық жүргізуші төменгі буындарында, мысалы мынадай аса маңызды абсолюттік каржылық көрсеткіштер қабылданады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німді (жұмысты немесе қызметті) өткізуден түсетін табы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ткізілген өнімнің (жұмыстың, қызметтердің) өзіндік құ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пы табы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зең шығы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ізгі қызметтен түсетін табыс (зиян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ыс салығының сомасы (төленген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за табыс (немесе зия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00"/>
                </a:solidFill>
                <a:latin typeface="Times New Roman"/>
              </a:rPr>
              <a:t>Негізгі белгілері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Қаржылық қатынастардың көпқырлылығ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Өндірістік құралдардың міндетті болу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елсенділ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йқындаушы негі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юбд"/>
          <p:cNvPicPr/>
          <p:nvPr/>
        </p:nvPicPr>
        <p:blipFill>
          <a:blip r:embed="rId2"/>
          <a:stretch/>
        </p:blipFill>
        <p:spPr>
          <a:xfrm>
            <a:off x="4572000" y="3505320"/>
            <a:ext cx="39146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19051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Кәсіпорындар мен ұйымдар қаржысы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3200" spc="-1" strike="noStrike">
                <a:solidFill>
                  <a:srgbClr val="ffcc00"/>
                </a:solidFill>
                <a:latin typeface="Times New Roman"/>
              </a:rPr>
              <a:t>қаржының біртұтас жүйесінің құрамдас бөлігі ретінде қаржының негізгі бастапқы бөлігін білдіреді,өйткені ол елдегі ақша қатынастарының маңызды сферасын қамти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54080" y="8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121600" y="2968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762120" y="914400"/>
            <a:ext cx="76197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cc00"/>
                </a:solidFill>
                <a:latin typeface="Times New Roman"/>
              </a:rPr>
              <a:t>Кәсіпорын қаржысы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 ұлғайтылған ұдайы өндірістің негізгі жақтарын ақшалай түрде көрсетеді және экономикалық заңдар талаптарына сай оны жүзеге асыруға жағдай жасай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cc00"/>
                </a:solidFill>
                <a:latin typeface="Times New Roman"/>
              </a:rPr>
              <a:t>Кәсіпорын және ұйымдар қаржысына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 кәсіпорындар,фирмалар,қоғамдар,концерндер,ассоциациялар,салалық министрліктер мен басқалай шаруашылық органдардың(ауылшаруашылық,құрылыс,көлік т.б.(қаржысы кіре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Times New Roman"/>
              </a:rPr>
              <a:t>Қазақстанда меншік формаларының дамуы кәсіпорындардың мынадай жаңа түрлерінің туындауына ықпал етті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Ж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Кооперативт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Акционерл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Арал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Шетелдердің кәсіпорындарымен бірлескен кәсіпорындар мен фирмалар,шаруашылық серіктестер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Кәсіпорын қаржысының мәні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 – бұл оның ішкі мазмұны,онда құн,яғни өндірістік және бөлу қатынастарының эзара байланысында қайта құрылған құн жаңа ақша қорына айнал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b7e7ff"/>
                </a:solidFill>
                <a:latin typeface="Times New Roman"/>
              </a:rPr>
              <a:t>Кәсіпорын қаржысы төмендегідей қызметтер атқарады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Ұдайы өнді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ө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Бақыл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жд"/>
          <p:cNvPicPr/>
          <p:nvPr/>
        </p:nvPicPr>
        <p:blipFill>
          <a:blip r:embed="rId2"/>
          <a:stretch/>
        </p:blipFill>
        <p:spPr>
          <a:xfrm>
            <a:off x="3733920" y="2971800"/>
            <a:ext cx="43434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b7e7ff"/>
                </a:solidFill>
                <a:latin typeface="Times New Roman"/>
              </a:rPr>
              <a:t>Кәсіпорын қаржысын ұйымдастырудың негізгі қағидалары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Коммерциялық есеп қағид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Өзін-өзі өтеу және қаржыландыру қағид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оспарлылық қағид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еңдік қағид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Қаржылық резервтердің қағид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b7e7ff"/>
                </a:solidFill>
                <a:latin typeface="Arial"/>
              </a:rPr>
              <a:t>жоспар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Шаруашылық жүргізуші субъектілер қаржысының ұғымы, функциялары және негізгі белгілер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Негізгі ұйымдық құқықтық нысандарының шаруашылық жүргізуші субъектілері қаржысының ерекшел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оммерциялық шаруашылық жүргізуші субъектілердің қаржысын ұйымдастырудың негіздері мен ќаржы ќорл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Өндірістік капиталдар және кәсіпорындар қызметінің қаржылық нәтижелер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Коммерциялық емес ұйымдар мен мекемелер қаржысының мазмұны және оны ұйымдасты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10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b7e7ff"/>
                </a:solidFill>
                <a:latin typeface="Times New Roman"/>
              </a:rPr>
              <a:t>Коммерциялық емес ұйымдар мен мекемелер әлеуметтік сипаттағы мынадай қызметтерді қөрсетеді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38080" y="2019240"/>
            <a:ext cx="6324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асқ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Қоғамдық тәртіпті қорға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Елдің қорғаны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Халықты әлеуметтік қорға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Қоршаған ортаны қорға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дениет және өн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Қайырымдылы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Гуманитарлы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Times New Roman"/>
              </a:rPr>
              <a:t>Нарық жағдайында көптеген ұйымдар төмендегідей коммерциялық есеп айырысу түрлеріне келеді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Сметалық қаржыланды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Шаруашылық жүргізудің шаруашылық есеп айырысу әдіс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Шығындардың өзін-өзі өтеу әдіс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8510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b7e7ff"/>
                </a:solidFill>
                <a:latin typeface="Times New Roman"/>
              </a:rPr>
              <a:t>Мақсаты:</a:t>
            </a:r>
            <a:r>
              <a:rPr b="0" lang="kk-KZ" sz="4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0" lang="kk-KZ" sz="4400" spc="-1" strike="noStrike">
                <a:solidFill>
                  <a:srgbClr val="ffffff"/>
                </a:solidFill>
                <a:latin typeface="Times New Roman"/>
              </a:rPr>
              <a:t>Шаруашылық жүргізуші субъектілер қаржысымен,оны ұйымдастыру ерекшеліктерімен таныстыру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851076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b7e7ff"/>
                </a:solidFill>
                <a:latin typeface="Times New Roman"/>
              </a:rPr>
              <a:t>Міндеттері: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аруашылық жүргізуші субъектілерінің қаржысының негізгі мазмұнын,оларды топтастыруды,әртүрлі меншік формасындағы кәсіпорындарда олардың қызмет ету ерекшеліктерін игеру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Шаруашылық жүргізу субъектілердің қаржысы</a:t>
            </a:r>
            <a:r>
              <a:rPr b="1" lang="kk-KZ" sz="4000" spc="-1" strike="noStrike">
                <a:solidFill>
                  <a:srgbClr val="ffcc00"/>
                </a:solidFill>
                <a:latin typeface="Times New Roman"/>
              </a:rPr>
              <a:t> – өнім өндіріп,сату кезіндег ақшалай табыстарды,қорланымдарды және қорларды жасаумен,бөлумен және пайдалануменбайланысты экономикалық қатынастарды айта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752480" y="4419720"/>
            <a:ext cx="1524240" cy="18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тивтік-жоспарлау және бақыла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04920" y="4419720"/>
            <a:ext cx="1447560" cy="18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лық-кредиттік жоспарла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04920" y="3048120"/>
            <a:ext cx="2895480" cy="7617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спарлау-экономикалық бюро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276720" y="4419720"/>
            <a:ext cx="1143000" cy="18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-микалық талда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04920" y="3809880"/>
            <a:ext cx="8686800" cy="6098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ОПТА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04920" y="2286000"/>
            <a:ext cx="8686800" cy="7621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Шаруашылық жүргізуші субьектісінің қаржы бөлім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4419720" y="4419720"/>
            <a:ext cx="1600200" cy="18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ып алушылар-мен есеп айырысу бюр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пеп айырысу бюр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6019920" y="4419720"/>
            <a:ext cx="1752480" cy="18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е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ізуші-лермен есеп айырыс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3048120" y="3048120"/>
            <a:ext cx="2743200" cy="7617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к және кассалық операциялар бюр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7772400" y="4419720"/>
            <a:ext cx="1219320" cy="18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нәрат-талап тоб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609480" y="7664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уашылық жүргізуші субьектісінің қаржысын басқар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</a:t>
            </a:r>
            <a:r>
              <a:rPr b="1" lang="kk-KZ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аруашылық жүргізуші субъектілердің қаржы службаларының маңызды міндеттері мыналар болып табыла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абысты немесе пайданы өсірудің жолдарын іздестіру және рентабелділікті артты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өндіріс, күрделі қаржылар, жаңа техниканы µндіру және басқа жоспарлы шығындар жөніндегі тапсырмаларды қаржы ресурста­рымен қамтамасыз ету; мемлекеттік бюджет, банктер, жеткізушілер, жоғарғы ұйымдар алдындағы қаржылық міндеттемелерді орында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 есеп айырысуларды ұйымдасты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өндірістік капитал мен күрделі жүмсалымды тиімді пайдалануга жәрдемде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қаржы ресурстарын дұрыс пайдалануды бақылау, айналым қаражаттарының сақталымдылығы мен тездетілген айналымдылығын қамтамасыз ету және басқ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Қаржы жоспарлаудың жүйесі және қаржылық көрсеткіштері</a:t>
            </a:r>
            <a:r>
              <a:rPr b="0" lang="kk-KZ" sz="44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лық жоспарлаудың негізгі құжаты болып келетін қаржы жоспары шаруашылық жүргізуші субъектілердің, салалардың, аймақтардың және жалпы мемлекеттің ақшалай табыстары (кірістері) мен қорланымдарын құрудың және пайдаланудың жоспары бо­лып табылады. Қаржы жоспары ұлттық шаруашылықтың ресурс­тарымен қамтамасыз етілуін көрсетед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Мыналар шаруашылық жүргізуші субъектілердің көлемдік көрсеткіштері болып табылады: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стициялар көлем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рғылық капиталдың мөлшер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ндірістік және әлеуметтік даму қорларының (қолдану, тұтыну немесе соларға ұқсас резервтік, валюта жөндеу қорларының) мөлшер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бдықтаушылармен, тұтынушылармен, банкпен, бюджетпен есеп айырысудың көрсеткіштері (кредиторлық және дебиторлық берешектер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өленген дивидендтердің, үлестердің мөлшер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йналым қаражаттары көздерінің көлем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0:53:06Z</dcterms:created>
  <dc:creator>UserLib</dc:creator>
  <dc:description/>
  <dc:language>en-US</dc:language>
  <cp:lastModifiedBy>Admin</cp:lastModifiedBy>
  <dcterms:modified xsi:type="dcterms:W3CDTF">2012-01-10T08:40:28Z</dcterms:modified>
  <cp:revision>12</cp:revision>
  <dc:subject/>
  <dc:title>Шаруашылыќ жїргізуші субъектілердіѕ ќаржысы</dc:title>
</cp:coreProperties>
</file>